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02D-5426-41A4-91F8-1513AA86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0C9-368D-4C1D-B41E-FB588108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C12-0280-4DD4-B996-699F15A5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A1F-1460-4103-AAE2-CABB10B6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BB67-7E6A-4708-9D7C-60ED491C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4A42-6CA9-46D0-9D49-382B536D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DD75-9B1E-406A-8439-7636C35C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9745-E881-42A3-9A59-07087E96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EE3F-D09F-482C-98F0-D94A7C78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0BB7-5563-4350-8DE1-5A733F27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C92B-03BA-4CC3-9FB1-23FD4397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618-8F4A-4121-974A-70572BEA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E96F-FB7C-4755-A3D1-9CC81524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46AB-B9D2-4ED6-940D-A619F7DD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619B-C7AC-42A8-9BBC-A9543054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4F02-A4DC-4820-B7B8-4B6C9F44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50B0-1012-4C6C-A968-6FBAEBFA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F57-9002-4E42-8331-A37C640E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FDB-1357-41F1-86EB-F85CDE3D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61C-C89E-4513-B798-2886D229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C02-F921-4298-9A5F-CA8C3ECA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350-D225-4A9B-95AD-41D60652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9EF8-14FD-4085-970B-6FB3AFA1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1EF-C24C-47E1-A0C4-7691F488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3A74-5A36-4352-8050-F060A8F85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03D2-C297-422B-8FA7-DCFDB2733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owth of Technology &amp; E-comme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onveni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lexibi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fford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cces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tential Benefi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 does wh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SBC - b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ity - other not kn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site – maintenance (other not kno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ahoo – pay di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tential Benefi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siness Capabiliti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in a competitive advant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hing a global mark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ices – 24h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ing in touch with market portfol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he Value Ch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-line banking is a primary activity in the value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activities are facilitated  by outsourcing, known as support activ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HE VALUE CH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real boost in sources of in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siness may open On-line accounts to get On-line fac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 COS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 program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help des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OURCES OF REVENUE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rget Market: Global VS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SBC – “The Worlds Local Bank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lobal Business Strategic 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stainable Competitive Advant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quires – Efficient production of 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duct inno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OMPET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-line Banking – lower barriers to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d transaction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less legislation on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 advertising of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BUSINESS PROCESS RE-ENGINE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ying BPR to On-line Ba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rategic response to a complex and dynamic business environme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ecause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mnipre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 avail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global access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local access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git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ECURITY IN ON-LINE BANKING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4792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at start seen as unsa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SBC steps of customer assurance   -unique log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internet help de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system protected by firew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encrypt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visual reassur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timing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 Life Cycle &amp;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s, services &amp; information 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nefits for 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urces of rev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nov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ain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us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usiness Mode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 &amp; Market Strate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ledge-based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ess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-pa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al with one customer at a time as many functions/tasks as possible and use customer databases interact communication tools will facilitate the servic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ne-to-One mark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line Ban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tion to Online B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efits for various 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rce of Reven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siness Life cycle, Model &amp; Market 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ison with Deutsche Bank &amp; HS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arison between HSBC &amp; Deutsche Ba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utsche Bank provides a better security system for Personal Internet Banking =&gt; HBCI (Home Banking Computer Interf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advantage is there is no flexibility i.e. no access from every computer with Internet acces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site design of Deutsche bank is more informative and structu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Deutches bank web si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5800" y="609480"/>
          <a:ext cx="77724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7772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SBC online banking, we came to the conclusion that Online banking is without doubt the future of personal banking =&gt; convenient, flexibility and 24/7 access.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SBC’s security service is not on the highest standard compared to the Deutsche Bank online services. If they were to improve in that sector, they could gain a competitive advantage against other online banks.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prefer to carry cash around with them, rather than using card, this is a sign of power and obviously richness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SBC Bank - Servi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ing : Personal Internet Banking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siness Internet Banking, Invest Direct and Yahoo Pay Direct =&gt; These are the main area on the HSBC s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rieving information for particular purposes e.g. Mortgages, how to borrow money 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formation architecture, flow, structur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the start site all the options for Online Banking are represen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iation between customers as Personal or Business purpo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y access and understanding to use their services e.g. getting the password and 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SBC provides technical support &amp; communicating via e-mail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3824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3824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siness Associat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jor player is the HSBC grou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d such called Global Relationship Management across 80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 companies &amp; other companies, which supports the Online Banking services are not mentioned – HSBC polic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tential Benefi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are we going to ga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 New Mar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in it for our business associates and partn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ahoo and Outsourcing - Adverti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tential Benefi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 it sustain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are the risk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er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44:21Z</dcterms:created>
  <dc:creator>em02ssn</dc:creator>
  <dc:description/>
  <dc:language>en-US</dc:language>
  <cp:lastModifiedBy>em02ssn</cp:lastModifiedBy>
  <dcterms:modified xsi:type="dcterms:W3CDTF">2004-04-28T11:14:38Z</dcterms:modified>
  <cp:revision>8</cp:revision>
  <dc:subject/>
  <dc:title>Online Banking</dc:title>
</cp:coreProperties>
</file>